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ECA3-0958-42E0-9B16-8C13B5E6A1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4696-9DF5-4F5F-8C79-F4003EBA366C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9E13-BDBC-4F87-B0A7-865A2C69A6E4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0226-8D21-4E68-8B95-1FBC4AB3A4C4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22C9-7FD3-43C7-A7B9-3D4EB3B8CA6F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1AC8-D80B-45B1-9045-0BBEE7ADBFD6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C5BB-CBB5-4F64-96C7-3C1718237ECB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66D2-8BB4-4396-A470-5DBF4EA16F75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2A5D-9F5B-4638-9CE7-3A8EB8BED8C5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DD06-EFB4-4153-AF0C-8E5CA0B56C29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6DEB-31B1-4B3B-BC0D-411021520943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83C6-7D38-4D5A-8FCF-B267BFF8FF50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8E01-535F-45E2-94AC-2C803BE9C113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30B4-14B0-43AA-9A22-91F8FD420A59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ABA8-B5F9-44D1-BC4C-4C2E43ECAACE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904C-F1E6-414D-9492-2F10124CF501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FEDD-40BB-401B-A98D-0CEF5FC064F2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2763-3441-4D7C-A0DE-D2819E0DE22B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2E4C-921F-4742-9AB7-A7EAFB23FDBE}" type="slidenum">
              <a:rPr b="0" lang="en-GB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492-A5AD-4650-BCC8-FE2738C3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B88-3382-48A1-B49B-0BC1BBAC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264-C109-4B64-BC58-AEF5A941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78B-985C-4424-AEA4-89E8F38F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A7A6-472D-42D9-B8C0-BB62E535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1CA8-4A3E-4E0F-98E1-DFFF3540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818C-3D93-4725-9E9F-EF1CB5D3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0545-749A-48DA-A03C-B2D68975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6DF4-5C82-451F-B1E4-314EBEEC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CC9C-717D-4EB9-AA84-D7374825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E094-0619-4180-B22F-DBFAA3BB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099-4C87-44AB-A997-5472EC0C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178A-8355-40A4-B87C-4841A5D4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FF8D-28E4-4B0E-996C-D7CD4BEA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3596-96D9-42A8-95BF-E56E2825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272F-17C5-4ABC-9E7C-BC05EC2F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1029-1926-4EA0-BE41-90FE9750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C71-0CBD-431F-B8CF-13C360C3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FDD-15DF-4676-914E-ECA179EB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8AB-977F-4248-BFB9-5F10B1FA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613-47BA-46DD-900C-0995CFB9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3B7-097D-4688-948C-5DC746A2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5CF-79E2-4F0D-8F01-1A0006E4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64A-E1F9-4608-8859-9B511E80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4CD3-A67F-472E-A1BD-624C51EEB0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0FA3-345C-451A-BCB3-A00FC3C0FC35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34" name="Picture 3" descr="Blood"/>
          <p:cNvPicPr/>
          <p:nvPr/>
        </p:nvPicPr>
        <p:blipFill>
          <a:blip r:embed="rId1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35" name="Line 4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8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4191120" y="2362320"/>
            <a:ext cx="4572000" cy="173988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42" name="Picture 4" descr="Bacteria covered in antigens"/>
          <p:cNvPicPr/>
          <p:nvPr/>
        </p:nvPicPr>
        <p:blipFill>
          <a:blip r:embed="rId1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antigens"/>
          <p:cNvPicPr/>
          <p:nvPr/>
        </p:nvPicPr>
        <p:blipFill>
          <a:blip r:embed="rId2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50" name="Picture 4" descr="antibodieaction2"/>
            <p:cNvPicPr/>
            <p:nvPr/>
          </p:nvPicPr>
          <p:blipFill>
            <a:blip r:embed="rId1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5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2895840" cy="1524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0099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Comic Sans MS"/>
              </a:rPr>
              <a:t>prevents entry by 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Comic Sans MS"/>
              </a:rPr>
              <a:t>shedding causing 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Comic Sans MS"/>
              </a:rPr>
              <a:t>acidic conditions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96" name="Picture 4" descr="vbodyman"/>
          <p:cNvPicPr/>
          <p:nvPr/>
        </p:nvPicPr>
        <p:blipFill>
          <a:blip r:embed="rId1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209680" y="502920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</a:rPr>
              <a:t>Nose mucus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96000" y="4508640"/>
            <a:ext cx="33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large intestine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keep out pathogens by competing with bad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2514600" y="2819520"/>
            <a:ext cx="106668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4647960" y="2286000"/>
            <a:ext cx="1724040" cy="78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3962520" y="3357360"/>
            <a:ext cx="680760" cy="1747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0" y="365760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weat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od from sweat allows good bacteria to live, these repel pathogenic bacteria            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 flipV="1">
            <a:off x="3276720" y="2895120"/>
            <a:ext cx="9144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2" name="Picture 4" descr="bacecoli"/>
          <p:cNvPicPr/>
          <p:nvPr/>
        </p:nvPicPr>
        <p:blipFill>
          <a:blip r:embed="rId1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pho_01"/>
          <p:cNvPicPr/>
          <p:nvPr/>
        </p:nvPicPr>
        <p:blipFill>
          <a:blip r:embed="rId2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30005b"/>
          <p:cNvPicPr/>
          <p:nvPr/>
        </p:nvPicPr>
        <p:blipFill>
          <a:blip r:embed="rId3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7" name="Picture 4" descr="259"/>
          <p:cNvPicPr/>
          <p:nvPr/>
        </p:nvPicPr>
        <p:blipFill>
          <a:blip r:embed="rId1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bact11"/>
          <p:cNvPicPr/>
          <p:nvPr/>
        </p:nvPicPr>
        <p:blipFill>
          <a:blip r:embed="rId2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20" name="Picture 3" descr="Blood"/>
          <p:cNvPicPr/>
          <p:nvPr/>
        </p:nvPicPr>
        <p:blipFill>
          <a:blip r:embed="rId1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These are a general name for 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4" name="Picture 4" descr="Phagocytose"/>
          <p:cNvPicPr/>
          <p:nvPr/>
        </p:nvPicPr>
        <p:blipFill>
          <a:blip r:embed="rId1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4303087"/>
          <p:cNvPicPr/>
          <p:nvPr/>
        </p:nvPicPr>
        <p:blipFill>
          <a:blip r:embed="rId2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57160" indent="-399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5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57160" indent="-399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57160" indent="-399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76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2" name="Picture 4" descr="acne2"/>
          <p:cNvPicPr/>
          <p:nvPr/>
        </p:nvPicPr>
        <p:blipFill>
          <a:blip r:embed="rId1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</dc:creator>
  <dc:description>the immune system phagocytosis</dc:description>
  <cp:keywords>the immune system phagocytosis</cp:keywords>
  <dc:language>en-US</dc:language>
  <cp:lastModifiedBy>David</cp:lastModifiedBy>
  <dcterms:modified xsi:type="dcterms:W3CDTF">2010-10-24T22:08:43Z</dcterms:modified>
  <cp:revision>9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